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BA5-FD43-4AAB-9F3E-E0E4EFA5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4BC-0455-4E75-BDA8-FFBF7CC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9CA-D4F9-497F-A4AC-52ACFD72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50A-BBCB-4F48-893F-75C60EA6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428-F6E6-450C-8650-37250216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8C0-07D1-4C90-84F2-8BFB3232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DC0-F54A-493B-8BAF-4C1E0D51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232-4CC9-4565-B9A0-300FCF00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0FB-1AFE-4624-972F-2E058AF9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350-68AF-4716-88EE-3385A98F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634-42C1-46C9-A5E3-A14F1E09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D0A-E702-4456-B86F-F4D7054F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046B-5A4D-4D4C-8E3E-E4F4A6F59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215561trgpRaNsdy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57800"/>
            <a:ext cx="9144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مالي سواك ياسيدي       حياتي رض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        أنت مُتّكَلي .... تُطَمئِنُ نفسي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6457ZyMZbofv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412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     نفس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تُفرِّح قلبي  ...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َرتَ لي درب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138657fOyBjnytPv_ph" descr=""/>
          <p:cNvPicPr/>
          <p:nvPr/>
        </p:nvPicPr>
        <p:blipFill>
          <a:blip r:embed="rId1"/>
          <a:stretch/>
        </p:blipFill>
        <p:spPr>
          <a:xfrm>
            <a:off x="-198108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7120" y="0"/>
            <a:ext cx="1676160" cy="9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Arabic Transparent"/>
              </a:rPr>
              <a:t>حينما ألقاك يا سيدي       عذبٌ ما أح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ea typeface="Arabic Transparent"/>
              </a:rPr>
              <a:t>        تُبَدِّدُ همّي  ..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Times New Roman"/>
              </a:rPr>
              <a:t>تُفَرِّجُ ع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1905120"/>
            <a:ext cx="32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سط الأشواك يا سيدي عينيَّ تراك يا سيدي      تُضَمِّدُ جُرحي ...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ُجدِّدُ فَرَ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25780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نفسي في حماك يا سيدي    عيني لعُلاك يا س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     قوَّتي حبَّك ...  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صخرتي وعد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9:29:42Z</dcterms:created>
  <dc:creator>SUZANNE.MD</dc:creator>
  <dc:description/>
  <dc:language>en-US</dc:language>
  <cp:lastModifiedBy>USER</cp:lastModifiedBy>
  <dcterms:modified xsi:type="dcterms:W3CDTF">2002-12-12T16:02:34Z</dcterms:modified>
  <cp:revision>2</cp:revision>
  <dc:subject/>
  <dc:title>PowerPoint Presentation</dc:title>
</cp:coreProperties>
</file>